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BBE4-54D6-4751-A124-07B4B15F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DB3-8A0F-481E-857B-96E37396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7CA-FE92-4F17-AE2B-5EDC132E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8520-C400-409B-BC94-C8FF83B5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F7AD-9450-4E78-A872-319678D1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AFBC-1816-4657-9F77-E59B10B8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A0AB-B5F7-4B29-A71F-1CFB6CB7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4461-D03F-4E0D-B12E-36CFB2FE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60F2-A057-4DED-9685-D6FA10A5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ADF5-A358-4703-A844-0478AEDF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D17F-56BD-4C80-B860-A9E84566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0955-CEDE-4402-BFB2-68320E6C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F130-AA0A-4C3A-B718-0B9708F5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AB7F-1403-4204-BBC1-8B681CF5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1C67-2010-41F5-87CE-113D0B15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FB3B-4CBF-47BA-A400-2495C162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33A5-81C1-4687-9C61-43EF2B1E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DA48-A1EA-4D8F-8A0D-D8E5F7D3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216-903E-4CE1-8CE1-19DCE05C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1FE-7B16-4F40-97F5-8B71A955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D94-7BFA-4D6B-8E68-DA289281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4B4-5E6B-46DB-854A-EFC3C623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200E-F05C-48FC-8BA1-7D222F83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5ABF-0FB0-4A40-A152-AB50B2C9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1024-BFD7-49A4-927B-38C631F9C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0DC4-1B05-4784-BA09-FB1C20F1699D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6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резентация на тему: Городецкая роспись. Птица – символ света, счастья и добра.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357300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ыполнил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удентка 642 групп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врамова Ан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3a7a"/>
                </a:solidFill>
                <a:latin typeface="Tahoma"/>
              </a:rPr>
              <a:t>Анализ образца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Объект 5" descr=""/>
          <p:cNvPicPr/>
          <p:nvPr/>
        </p:nvPicPr>
        <p:blipFill>
          <a:blip r:embed="rId1"/>
          <a:srcRect l="3222" t="12280" r="6549" b="6843"/>
          <a:stretch/>
        </p:blipFill>
        <p:spPr>
          <a:xfrm>
            <a:off x="1187280" y="1628640"/>
            <a:ext cx="7490160" cy="468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Рисовать будем поэтапно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Объект 5" descr="D:\УЧЕБА\поберезкая\Новая папка\bonus1_713.jpg"/>
          <p:cNvPicPr/>
          <p:nvPr/>
        </p:nvPicPr>
        <p:blipFill>
          <a:blip r:embed="rId1"/>
          <a:srcRect l="7139" t="13522" r="26276" b="50644"/>
          <a:stretch/>
        </p:blipFill>
        <p:spPr>
          <a:xfrm>
            <a:off x="971640" y="1557360"/>
            <a:ext cx="748980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Далее мы будем делать так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Рисунок 11" descr="D:\УЧЕБА\поберезкая\Новая папка\bonus1_713.jpg"/>
          <p:cNvPicPr/>
          <p:nvPr/>
        </p:nvPicPr>
        <p:blipFill>
          <a:blip r:embed="rId1"/>
          <a:srcRect l="7875" t="49163" r="49926" b="7373"/>
          <a:stretch/>
        </p:blipFill>
        <p:spPr>
          <a:xfrm>
            <a:off x="3924360" y="1844640"/>
            <a:ext cx="4753080" cy="48085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2" descr="D:\УЧЕБА\поберезкая\Новая папка\bonus1_713.jpg"/>
          <p:cNvPicPr/>
          <p:nvPr/>
        </p:nvPicPr>
        <p:blipFill>
          <a:blip r:embed="rId2"/>
          <a:srcRect l="71492" t="14005" r="7311" b="47682"/>
          <a:stretch/>
        </p:blipFill>
        <p:spPr>
          <a:xfrm>
            <a:off x="324000" y="1844640"/>
            <a:ext cx="3528720" cy="480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И завершаем работ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Объект 4" descr="D:\УЧЕБА\поберезкая\Новая папка\bonus1_713.jpg"/>
          <p:cNvPicPr/>
          <p:nvPr/>
        </p:nvPicPr>
        <p:blipFill>
          <a:blip r:embed="rId1"/>
          <a:srcRect l="48234" t="49903" r="6379" b="7630"/>
          <a:stretch/>
        </p:blipFill>
        <p:spPr>
          <a:xfrm>
            <a:off x="1116000" y="1989000"/>
            <a:ext cx="7488360" cy="468000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250920" y="6093000"/>
            <a:ext cx="720720" cy="620640"/>
          </a:xfrm>
          <a:custGeom>
            <a:avLst/>
            <a:gdLst>
              <a:gd name="textAreaLeft" fmla="*/ 0 w 720720"/>
              <a:gd name="textAreaRight" fmla="*/ 721080 w 720720"/>
              <a:gd name="textAreaTop" fmla="*/ 0 h 620640"/>
              <a:gd name="textAreaBottom" fmla="*/ 620640 h 62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Оцениваем работы по следующим критериям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исунок должен быть ярки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авильно выполненны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нтересны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ahoma"/>
              </a:rPr>
              <a:t>Спасибо за работу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Городецкая роспись.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тица – символ света, счастья и добра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лан работ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Виды городецкой роспис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Виды композиц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Анализ работ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Оценивание рабо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Птиц изображают в различных вариантах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ервый вариант: гордый павлин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Рисунок 4" descr=""/>
          <p:cNvPicPr/>
          <p:nvPr/>
        </p:nvPicPr>
        <p:blipFill>
          <a:blip r:embed="rId1"/>
          <a:stretch/>
        </p:blipFill>
        <p:spPr>
          <a:xfrm>
            <a:off x="2843280" y="2637000"/>
            <a:ext cx="343368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торой вариант: насупленный индюк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Содержимое 3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4007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32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ретий вариант: задиристый петух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орао"/>
          <p:cNvPicPr/>
          <p:nvPr/>
        </p:nvPicPr>
        <p:blipFill>
          <a:blip r:embed="rId1"/>
          <a:stretch/>
        </p:blipFill>
        <p:spPr>
          <a:xfrm>
            <a:off x="2620800" y="1700280"/>
            <a:ext cx="3324240" cy="475308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826920" y="6093000"/>
            <a:ext cx="865440" cy="504720"/>
          </a:xfrm>
          <a:custGeom>
            <a:avLst/>
            <a:gdLst>
              <a:gd name="textAreaLeft" fmla="*/ 0 w 865440"/>
              <a:gd name="textAreaRight" fmla="*/ 865800 w 865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Существуют три вида композиции в городецкой роспис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1.цветочная роспись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2" descr="F:\i.jpg"/>
          <p:cNvPicPr/>
          <p:nvPr/>
        </p:nvPicPr>
        <p:blipFill>
          <a:blip r:embed="rId1"/>
          <a:stretch/>
        </p:blipFill>
        <p:spPr>
          <a:xfrm>
            <a:off x="3203640" y="2565360"/>
            <a:ext cx="356400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2.Цветочная роспись с включением мотива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«конь» и «птица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2" descr="F:\i (1).jpg"/>
          <p:cNvPicPr/>
          <p:nvPr/>
        </p:nvPicPr>
        <p:blipFill>
          <a:blip r:embed="rId1"/>
          <a:stretch/>
        </p:blipFill>
        <p:spPr>
          <a:xfrm>
            <a:off x="468360" y="2492280"/>
            <a:ext cx="3803760" cy="410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F:\i (2).jpg"/>
          <p:cNvPicPr/>
          <p:nvPr/>
        </p:nvPicPr>
        <p:blipFill>
          <a:blip r:embed="rId2"/>
          <a:stretch/>
        </p:blipFill>
        <p:spPr>
          <a:xfrm>
            <a:off x="5148360" y="2492280"/>
            <a:ext cx="3529080" cy="407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сюжетная роспись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2" descr="F:\000006.jpg"/>
          <p:cNvPicPr/>
          <p:nvPr/>
        </p:nvPicPr>
        <p:blipFill>
          <a:blip r:embed="rId1"/>
          <a:stretch/>
        </p:blipFill>
        <p:spPr>
          <a:xfrm>
            <a:off x="2700360" y="1700280"/>
            <a:ext cx="4321080" cy="494496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755640" y="5950080"/>
            <a:ext cx="792000" cy="647640"/>
          </a:xfrm>
          <a:custGeom>
            <a:avLst/>
            <a:gdLst>
              <a:gd name="textAreaLeft" fmla="*/ 0 w 792000"/>
              <a:gd name="textAreaRight" fmla="*/ 792360 w 792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05:29:00Z</dcterms:created>
  <dc:creator>студент</dc:creator>
  <dc:description/>
  <dc:language>en-US</dc:language>
  <cp:lastModifiedBy>студент</cp:lastModifiedBy>
  <dcterms:modified xsi:type="dcterms:W3CDTF">2011-06-15T13:27:46Z</dcterms:modified>
  <cp:revision>7</cp:revision>
  <dc:subject/>
  <dc:title>Городецкая роспись.</dc:title>
</cp:coreProperties>
</file>